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9DE48-4094-4B31-B544-1709C87D52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C5B6-9A29-4579-B679-18DABF430AB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3AE27-D29B-49C3-B8AB-28239AA95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B932A-2EF0-41B7-8C09-801D63C6F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AE8CB-B751-4D13-AF19-7F8C483D0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01E6F-C6A3-4549-B6F5-03B722D4A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1950C-1FD1-4C75-977B-CF5284D73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8FB61-166D-40E6-B704-F7D4A13C7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9368B-2C84-4815-9748-6B336C33B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07122-9EE4-4115-9C5A-B0B0242D7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6D128-6A8D-4367-A196-BA03A3147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253A9-B31E-49C6-838C-84DE60914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9F17D-AFB4-455F-B481-3BC267A61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73D9A-5F42-45BB-84A4-B5F251104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505C-3706-4C04-9F8B-5FC2E38976B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Development of State Constitutions and the Texas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rst, within the federal system (as we will see when we cover this subject more thoroughly later when we discuss federalism) states possess the reserved powers, which tend to be open ended. These are the powers to regulate the health, safety, welfare and morals of the communit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7: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begins with the statement that the “diffusion of knowledge” is “essential to the preservation of the liberties and rights of the people.” As a result, a system of free public school shall be supported and maintai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8: Taxation and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exhaustively details the nature of tax policy on the state and local leve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9: Coun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authorizes the creation of counties and stipulates their purpose. Counties carry out state laws, so this section outlines how that is to be done. It also authorizes the creation special districts (Hospital, Airport, and Public Heal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0: Railroa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that railroads are public highways and railroad companies are subject to regulations. The Article has been heavily amended and deple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1: Municipal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establishes the legal status of counties and provides for how cities can attain legal status, to be incorporated. It details the process that cities with less than, and more than 5,000 have to go through in order to obtain city charters, and what those charters authorize the cities to do.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ulation of these powers in a state’s constitution requires a great deal of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worth a special note since the United States Constitution says nothing about cities. Their position in the constitutional system has been subject to debate. The same is true for counties and single purpose governmental entities. We will discuss this more when we cover federalis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2: Private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very brief Article which simply authorizes the state to create private corporations and determine that the public and the stockholders shall be protected from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3: Spanish Land Grants</a:t>
            </a:r>
            <a:br>
              <a:rPr sz="4400"/>
            </a:br>
            <a:br>
              <a:rPr sz="4400"/>
            </a:br>
            <a:r>
              <a:rPr b="0" lang="en-US" sz="4400" spc="-1" strike="noStrike">
                <a:solidFill>
                  <a:srgbClr val="000000"/>
                </a:solidFill>
                <a:latin typeface="Calibri"/>
              </a:rPr>
              <a:t>This section does not exist anymore, but was obviously a relic dating back to the nature of the land grants early Texans received from Spain which allowed for their settlement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4: Public Lands and Land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lso a very brief article which simply states that a General Land Office shall exist which keep a registry of all land titles coming from the state. This office is to be self sustai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5: Impeac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rticle thoroughly details how public officials can be impeached and removed from office. This applies only to executive and judicial offici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6: General Prov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title suggests, this article contains various provisions that do not seem to fit in any of the other articles. These includes laws relating to alcoholic beverages, punishments for bribery, conservation of natural resources, 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many state constitutions (especially Texas’) were written in order to place detailed limits on the powers of state governments. </a:t>
            </a:r>
            <a:br>
              <a:rPr sz="4400"/>
            </a:br>
            <a:br>
              <a:rPr sz="4400"/>
            </a:br>
            <a:r>
              <a:rPr b="0" lang="en-US" sz="4400" spc="-1" strike="noStrike">
                <a:solidFill>
                  <a:srgbClr val="000000"/>
                </a:solidFill>
                <a:latin typeface="Calibri"/>
              </a:rPr>
              <a:t>This also requires a lot of wor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7: Mode of Amending the Constitution of this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the title suggests, this refers to the process for amending the Texas Constitution, which happens quite a bit as we know. You can see evidence of the impact of amendment while reading through the document. All that is required is a 2/3rds vote in each chamber in the legislature and a majority vote by the general popul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mendments here on the following: Amendments to the Texas Constitution Since 1876, </a:t>
            </a:r>
            <a:br>
              <a:rPr sz="4400"/>
            </a:br>
            <a:r>
              <a:rPr b="0" lang="en-US" sz="4400" spc="-1" strike="noStrike">
                <a:solidFill>
                  <a:srgbClr val="000000"/>
                </a:solidFill>
                <a:latin typeface="Calibri"/>
              </a:rPr>
              <a:t>Texas Legislative Council</a:t>
            </a:r>
            <a:br>
              <a:rPr sz="4400"/>
            </a:br>
            <a:r>
              <a:rPr b="0" lang="en-US" sz="4400" spc="-1" strike="noStrike">
                <a:solidFill>
                  <a:srgbClr val="000000"/>
                </a:solidFill>
                <a:latin typeface="Calibri"/>
              </a:rPr>
              <a:t>March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it</a:t>
            </a:r>
            <a:br>
              <a:rPr sz="4400"/>
            </a:br>
            <a:br>
              <a:rPr sz="4400"/>
            </a:br>
            <a:r>
              <a:rPr b="0" lang="en-US" sz="2800" spc="-1" strike="noStrike">
                <a:solidFill>
                  <a:srgbClr val="000000"/>
                </a:solidFill>
                <a:latin typeface="Calibri"/>
              </a:rPr>
              <a:t>so f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umbersome and convoluted nature of the document has led to occasional attempts to replace it. The only serious attempt to do so was in 1974, which failed (here is a Citizen’s Guide to the proposed constitution). New constitutions create uncertainly, so warts and all, vested interests tend to prefer what they know to what they do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Federalist #45, James Madison state that the powers of the national government were “few and defined” but that those of the states were “many and undefined.”</a:t>
            </a:r>
            <a:br>
              <a:rPr sz="2800"/>
            </a:br>
            <a:br>
              <a:rPr sz="2800"/>
            </a:br>
            <a:r>
              <a:rPr b="0" lang="en-US" sz="2800" spc="-1" strike="noStrike">
                <a:solidFill>
                  <a:srgbClr val="000000"/>
                </a:solidFill>
                <a:latin typeface="Calibri"/>
              </a:rPr>
              <a:t>States have the power to do anything that they are not forbidden to do in the national constitution. Some states however – notably Texas – place limitations on their own power. Doing so requires lots of language. Conversely, if the people of a state change their minds and wish to change that limitation, that requires lots of words as wel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from 2305 that the brief and sometimes obscure language in the United States Constitution has led not only to conflict over the meaning of terms in the document, but a gradual expansion of nation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Texas has one of the nation’s longest constitutions. It’s also one of the more restrictive state constitutions. These observations go hand in ha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let’s look at the development of state constitutions – recall that we touched on this subject in the previous set of slides since state constitutions predated the United State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nstitutions of the original 13 states can be traced to the charters granted by Britain which allowed for the establishment of each of the original colonies.</a:t>
            </a:r>
            <a:br>
              <a:rPr sz="4000"/>
            </a:br>
            <a:br>
              <a:rPr sz="4000"/>
            </a:br>
            <a:r>
              <a:rPr b="0" lang="en-US" sz="4000" spc="-1" strike="noStrike">
                <a:solidFill>
                  <a:srgbClr val="000000"/>
                </a:solidFill>
                <a:latin typeface="Calibri"/>
              </a:rPr>
              <a:t>Each was unique and written to deal with the circumstances related to each particular colon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ould turn into colonial constitutions.</a:t>
            </a:r>
            <a:br>
              <a:rPr sz="4400"/>
            </a:br>
            <a:br>
              <a:rPr sz="4400"/>
            </a:br>
            <a:r>
              <a:rPr b="0" lang="en-US" sz="4400" spc="-1" strike="noStrike">
                <a:solidFill>
                  <a:srgbClr val="000000"/>
                </a:solidFill>
                <a:latin typeface="Calibri"/>
              </a:rPr>
              <a:t>Essay: Colonial Origins of the American Constitution. </a:t>
            </a:r>
            <a:br>
              <a:rPr sz="4400"/>
            </a:br>
            <a:r>
              <a:rPr b="0" lang="en-US" sz="4400" spc="-1" strike="noStrike">
                <a:solidFill>
                  <a:srgbClr val="000000"/>
                </a:solidFill>
                <a:latin typeface="Calibri"/>
              </a:rPr>
              <a:t>Wikipedia: Colonial Government in the Thirteen Co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ddition to having a national constitution, each of the 50 states has its own individual constitution. </a:t>
            </a:r>
            <a:br>
              <a:rPr sz="4000"/>
            </a:br>
            <a:br>
              <a:rPr sz="4000"/>
            </a:br>
            <a:r>
              <a:rPr b="0" lang="en-US" sz="4000" spc="-1" strike="noStrike">
                <a:solidFill>
                  <a:srgbClr val="000000"/>
                </a:solidFill>
                <a:latin typeface="Calibri"/>
              </a:rPr>
              <a:t>Cities also have charters. In fact every governing institution is based on some type of document that justifies its authority and defines its pow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paper which describes the relationship between early state constitutions and colonial char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onial Charters</a:t>
            </a:r>
            <a:br>
              <a:rPr sz="4400"/>
            </a:br>
            <a:br>
              <a:rPr sz="4400"/>
            </a:br>
            <a:r>
              <a:rPr b="0" lang="en-US" sz="4400" spc="-1" strike="noStrike">
                <a:solidFill>
                  <a:srgbClr val="000000"/>
                </a:solidFill>
                <a:latin typeface="Calibri"/>
              </a:rPr>
              <a:t>They were organized under three types of char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porate </a:t>
            </a:r>
            <a:br>
              <a:rPr sz="4400"/>
            </a:br>
            <a:r>
              <a:rPr b="0" lang="en-US" sz="4400" spc="-1" strike="noStrike">
                <a:solidFill>
                  <a:srgbClr val="000000"/>
                </a:solidFill>
                <a:latin typeface="Calibri"/>
              </a:rPr>
              <a:t>Proprietary</a:t>
            </a:r>
            <a:br>
              <a:rPr sz="4400"/>
            </a:br>
            <a:r>
              <a:rPr b="0" lang="en-US" sz="4400" spc="-1" strike="noStrike">
                <a:solidFill>
                  <a:srgbClr val="000000"/>
                </a:solidFill>
                <a:latin typeface="Calibri"/>
              </a:rPr>
              <a:t>Royal</a:t>
            </a:r>
            <a:br>
              <a:rPr sz="4400"/>
            </a:br>
            <a:br>
              <a:rPr sz="4400"/>
            </a:br>
            <a:r>
              <a:rPr b="0" lang="en-US" sz="2400" spc="-1" strike="noStrike">
                <a:solidFill>
                  <a:srgbClr val="000000"/>
                </a:solidFill>
                <a:latin typeface="Calibri"/>
              </a:rPr>
              <a:t>See The Avalon Project for the text of actual charters</a:t>
            </a:r>
            <a:br>
              <a:rPr sz="2400"/>
            </a:br>
            <a:r>
              <a:rPr b="0" lang="en-US" sz="2400" spc="-1" strike="noStrike">
                <a:solidFill>
                  <a:srgbClr val="000000"/>
                </a:solidFill>
                <a:latin typeface="Calibri"/>
              </a:rPr>
              <a:t>Click here for further descrip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difference between these charters was where the authority within the community was granted. In a proprietary or corporate charters is was granted to landowners or a corporation. In a royal charter, the monarch ruled directly over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rst charters were issued to the London Company (or the Virginia Company) to establish Virginia and to the Plymouth Company to establish Plymouth Colony.</a:t>
            </a:r>
            <a:br>
              <a:rPr sz="4000"/>
            </a:br>
            <a:br>
              <a:rPr sz="4000"/>
            </a:br>
            <a:r>
              <a:rPr b="0" lang="en-US" sz="4000" spc="-1" strike="noStrike">
                <a:solidFill>
                  <a:srgbClr val="000000"/>
                </a:solidFill>
                <a:latin typeface="Calibri"/>
              </a:rPr>
              <a:t>These were proprietary colonies intended to promote the development of the New Worl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t>
            </a:r>
            <a:br>
              <a:rPr sz="4400"/>
            </a:br>
            <a:br>
              <a:rPr sz="4400"/>
            </a:br>
            <a:r>
              <a:rPr b="0" lang="en-US" sz="4400" spc="-1" strike="noStrike">
                <a:solidFill>
                  <a:srgbClr val="000000"/>
                </a:solidFill>
                <a:latin typeface="Calibri"/>
              </a:rPr>
              <a:t>The First Charter of Virginia; April 10, 1606</a:t>
            </a:r>
            <a:br>
              <a:rPr sz="4400"/>
            </a:br>
            <a:br>
              <a:rPr sz="4400"/>
            </a:br>
            <a:r>
              <a:rPr b="0" lang="en-US" sz="4400" spc="-1" strike="noStrike">
                <a:solidFill>
                  <a:srgbClr val="000000"/>
                </a:solidFill>
                <a:latin typeface="Calibri"/>
              </a:rPr>
              <a:t>The Charter of New England, 162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system of government in the colonies was actually contained in a sealed box that was included in the voyage to Virginia in 1607. Once open, it contained the names of seven people who were to be a council and were to select a president from among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British monarch accumulated power, most colonial charters would revert to royal charters. </a:t>
            </a:r>
            <a:br>
              <a:rPr sz="4400"/>
            </a:br>
            <a:br>
              <a:rPr sz="4400"/>
            </a:br>
            <a:r>
              <a:rPr b="0" lang="en-US" sz="4400" spc="-1" strike="noStrike">
                <a:solidFill>
                  <a:srgbClr val="000000"/>
                </a:solidFill>
                <a:latin typeface="Calibri"/>
              </a:rPr>
              <a:t>Click here for a timeline of colonial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independence was declared, states got into the business of establishing their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of the process: </a:t>
            </a:r>
            <a:br>
              <a:rPr sz="4400"/>
            </a:br>
            <a:br>
              <a:rPr sz="4400"/>
            </a:br>
            <a:r>
              <a:rPr b="0" i="1" lang="en-US" sz="4400" spc="-1" strike="noStrike">
                <a:solidFill>
                  <a:srgbClr val="000000"/>
                </a:solidFill>
                <a:latin typeface="Calibri"/>
              </a:rPr>
              <a:t>The First State Constitutions, 1776–1783</a:t>
            </a:r>
            <a:r>
              <a:rPr b="0" lang="en-US" sz="4400" spc="-1" strike="noStrike">
                <a:solidFill>
                  <a:srgbClr val="000000"/>
                </a:solidFill>
                <a:latin typeface="Calibri"/>
              </a:rPr>
              <a:t> - James McClellan, </a:t>
            </a:r>
            <a:r>
              <a:rPr b="0" i="1" lang="en-US" sz="4400" spc="-1" strike="noStrike">
                <a:solidFill>
                  <a:srgbClr val="000000"/>
                </a:solidFill>
                <a:latin typeface="Calibri"/>
              </a:rPr>
              <a:t>Liberty, Order, and Justice: An Introduction to the Constitutional Principles of American Government</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will trace the development of state constitutions, note where they are similar to and different from the United States Constitution, and understand why that is the ca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cClellan outlines four different types of constitutions based on the procedures for establishing them in their respectiv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 Constitutions framed by purely legislative bodies which had no express authority from the people to write a constitution and never submitted their handiwork to the people for approval. These were the constitutions of New Jersey, Virginia, and South Carolina, all of which were adopted in 1776. South Carolina adopted a second constitution in 1778.</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 Constitutions framed by purely legislative bodies, but with express authority conferred upon them for this purpose by the people—without submission to the people for approval, however. These were the constitutions of New Hampshire, Delaware, Georgia, New York, and Vermo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 Constitutions framed by purely legislative bodies but with express authority conferred upon them for this purpose by the people and formal or informal submission of the constitution to the people—Maryland, Pennsylvania, North Carolina, South Carolina (1778), and Massachusetts (1778). Among these, only Massachusetts </a:t>
            </a:r>
            <a:r>
              <a:rPr b="0" i="1" lang="en-US" sz="3600" spc="-1" strike="noStrike">
                <a:solidFill>
                  <a:srgbClr val="000000"/>
                </a:solidFill>
                <a:latin typeface="Calibri"/>
              </a:rPr>
              <a:t>formally</a:t>
            </a:r>
            <a:r>
              <a:rPr b="0" lang="en-US" sz="3600" spc="-1" strike="noStrike">
                <a:solidFill>
                  <a:srgbClr val="000000"/>
                </a:solidFill>
                <a:latin typeface="Calibri"/>
              </a:rPr>
              <a:t> submitted its constitution to the peop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 The framing of a constitution by a </a:t>
            </a:r>
            <a:r>
              <a:rPr b="0" i="1" lang="en-US" sz="3600" spc="-1" strike="noStrike">
                <a:solidFill>
                  <a:srgbClr val="000000"/>
                </a:solidFill>
                <a:latin typeface="Calibri"/>
              </a:rPr>
              <a:t>convention</a:t>
            </a:r>
            <a:r>
              <a:rPr b="0" lang="en-US" sz="3600" spc="-1" strike="noStrike">
                <a:solidFill>
                  <a:srgbClr val="000000"/>
                </a:solidFill>
                <a:latin typeface="Calibri"/>
              </a:rPr>
              <a:t> chosen for this purpose only, with the subsequent submission of the Constitution to the people for approval. These were the States of Massachusetts (1779–1780) and New Hampshire (1779–1783) in their second attempts at establishing an acceptable fundamental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variety of separate decisions were made having to do with the powers of governing institutions and the rights of individuals.</a:t>
            </a:r>
            <a:br>
              <a:rPr sz="4000"/>
            </a:br>
            <a:br>
              <a:rPr sz="4000"/>
            </a:br>
            <a:r>
              <a:rPr b="0" lang="en-US" sz="4000" spc="-1" strike="noStrike">
                <a:solidFill>
                  <a:srgbClr val="000000"/>
                </a:solidFill>
                <a:latin typeface="Calibri"/>
              </a:rPr>
              <a:t>For example, here’s online background on how each state determined what relationship they would allow between church and st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cClellan points out three weaknesses of early state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they all failed to provide for an adequate system of separation of powers. Most of them established three separate and distinct branches of government, with no overlapping personnel; but the men who drafted them thought in terms of a “pure” separation and did not understand the need for checks and balanc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all of these first constitutions, with the exception of New York’s, failed to establish an independent executive. In most cases, governors were appointed by and answerable to the legislatures, and their powers were severely restricted. Even those governors who enjoyed a semblance of authority found it difficult to protect their office because they lacked sufficient means by which to check legislative encroach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all of these first constitutions lacked a provision establishing the constitution as the supreme law. One factor contributing greatly to the problem of legislative supremacy in the period between 1776 and 1787 was the common assumption that legislators were the sole judges of their own constitutional powers. Too few lawyers of the day believed that a State court had the right to declare a statute invalid on the ground that it violated the State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also look at how the constitutional structure in Texas changed over the course of the 19</a:t>
            </a:r>
            <a:r>
              <a:rPr b="0" lang="en-US" sz="4000" spc="-1" strike="noStrike" baseline="30000">
                <a:solidFill>
                  <a:srgbClr val="000000"/>
                </a:solidFill>
                <a:latin typeface="Calibri"/>
              </a:rPr>
              <a:t>th</a:t>
            </a:r>
            <a:r>
              <a:rPr b="0" lang="en-US" sz="4000" spc="-1" strike="noStrike">
                <a:solidFill>
                  <a:srgbClr val="000000"/>
                </a:solidFill>
                <a:latin typeface="Calibri"/>
              </a:rPr>
              <a:t> century and the factors which explain those changes. We will also outline the nature of the current constitution and come to terms with the changes that have been made to the document since it was ratified in 1876.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assumed after independence that new states would be formed by American settlers who were quickly heading w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orthwest Ordinance allowed the creation of new states out of territories once they reached a population of 60,000. It determined how the territories were to be governed until each was granted statehood and they were allowed to create their own constitutions. The Enabling Act of 1802 established the ground rules by which those early states were establish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many ways the Northwest Ordinance served as a constitution for the new territories until states were formed and residents were authorized to create their ow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did the following: </a:t>
            </a:r>
            <a:br>
              <a:rPr sz="3600"/>
            </a:br>
            <a:br>
              <a:rPr sz="3600"/>
            </a:br>
            <a:r>
              <a:rPr b="0" lang="en-US" sz="3600" spc="-1" strike="noStrike">
                <a:solidFill>
                  <a:srgbClr val="000000"/>
                </a:solidFill>
                <a:latin typeface="Calibri"/>
              </a:rPr>
              <a:t>- Relinquished the claims other states had over the territory.</a:t>
            </a:r>
            <a:br>
              <a:rPr sz="3600"/>
            </a:br>
            <a:r>
              <a:rPr b="0" lang="en-US" sz="3600" spc="-1" strike="noStrike">
                <a:solidFill>
                  <a:srgbClr val="000000"/>
                </a:solidFill>
                <a:latin typeface="Calibri"/>
              </a:rPr>
              <a:t>- Mandated the creation of new states.</a:t>
            </a:r>
            <a:br>
              <a:rPr sz="3600"/>
            </a:br>
            <a:r>
              <a:rPr b="0" lang="en-US" sz="3600" spc="-1" strike="noStrike">
                <a:solidFill>
                  <a:srgbClr val="000000"/>
                </a:solidFill>
                <a:latin typeface="Calibri"/>
              </a:rPr>
              <a:t>- Established governments in the new territories.</a:t>
            </a:r>
            <a:br>
              <a:rPr sz="3600"/>
            </a:br>
            <a:r>
              <a:rPr b="0" lang="en-US" sz="3600" spc="-1" strike="noStrike">
                <a:solidFill>
                  <a:srgbClr val="000000"/>
                </a:solidFill>
                <a:latin typeface="Calibri"/>
              </a:rPr>
              <a:t>- Guaranteed rights to the residents of the territories.</a:t>
            </a:r>
            <a:br>
              <a:rPr sz="3600"/>
            </a:br>
            <a:r>
              <a:rPr b="0" lang="en-US" sz="3600" spc="-1" strike="noStrike">
                <a:solidFill>
                  <a:srgbClr val="000000"/>
                </a:solidFill>
                <a:latin typeface="Calibri"/>
              </a:rPr>
              <a:t>- Prohibited slavery and indentured servitude in the territo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also made allowances for new states in Article 4, Section 3. It did so by guaranteeing that the borders of the new states would not interfere with those of existing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states borrowed ideas from other state constitutions,</a:t>
            </a:r>
            <a:br>
              <a:rPr sz="4400"/>
            </a:br>
            <a:br>
              <a:rPr sz="4400"/>
            </a:br>
            <a:r>
              <a:rPr b="0" lang="en-US" sz="4400" spc="-1" strike="noStrike">
                <a:solidFill>
                  <a:srgbClr val="000000"/>
                </a:solidFill>
                <a:latin typeface="Calibri"/>
              </a:rPr>
              <a:t>Of the original states, many southern states borrowed from Virginia’s , while northern states borrowed from New Yo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irginia Constitution limited participation to the landed aristocracy. </a:t>
            </a:r>
            <a:br>
              <a:rPr sz="4400"/>
            </a:br>
            <a:br>
              <a:rPr sz="4400"/>
            </a:br>
            <a:r>
              <a:rPr b="0" lang="en-US" sz="4400" spc="-1" strike="noStrike">
                <a:solidFill>
                  <a:srgbClr val="000000"/>
                </a:solidFill>
                <a:latin typeface="Calibri"/>
              </a:rPr>
              <a:t>The New York Constitution contained a strong independent executive and promoted commercial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background, click here for a link to a page in Oregon’s official website comparing state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pon entry into the union, each state has had a constitutional convention which wrote out its constitution, which then had to be ratified by the eligible voters in the state.  </a:t>
            </a:r>
            <a:br>
              <a:rPr sz="4000"/>
            </a:br>
            <a:br>
              <a:rPr sz="4000"/>
            </a:br>
            <a:r>
              <a:rPr b="0" lang="en-US" sz="4000" spc="-1" strike="noStrike">
                <a:solidFill>
                  <a:srgbClr val="000000"/>
                </a:solidFill>
                <a:latin typeface="Calibri"/>
              </a:rPr>
              <a:t>Many, including Texas have had multiple conven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state constitutions – those of the early states, especially those that were once colonies -  tended to have rigid limits on who could participate. The colonies, since they were British, were aristocratic and contained class distin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useful links for further information about state constitutions: </a:t>
            </a:r>
            <a:br>
              <a:rPr sz="4000"/>
            </a:br>
            <a:br>
              <a:rPr sz="4000"/>
            </a:br>
            <a:r>
              <a:rPr b="0" lang="en-US" sz="4000" spc="-1" strike="noStrike">
                <a:solidFill>
                  <a:srgbClr val="000000"/>
                </a:solidFill>
                <a:latin typeface="Calibri"/>
              </a:rPr>
              <a:t>- Wikipedia (state constitutions)</a:t>
            </a:r>
            <a:br>
              <a:rPr sz="4000"/>
            </a:br>
            <a:r>
              <a:rPr b="0" lang="en-US" sz="4000" spc="-1" strike="noStrike">
                <a:solidFill>
                  <a:srgbClr val="000000"/>
                </a:solidFill>
                <a:latin typeface="Calibri"/>
              </a:rPr>
              <a:t>- LII: State Constitutions, Statues and Related Legislative Information</a:t>
            </a:r>
            <a:br>
              <a:rPr sz="4000"/>
            </a:br>
            <a:r>
              <a:rPr b="0" lang="en-US" sz="4000" spc="-1" strike="noStrike">
                <a:solidFill>
                  <a:srgbClr val="000000"/>
                </a:solidFill>
                <a:latin typeface="Calibri"/>
              </a:rPr>
              <a:t>- Ballotpedia: number of constitutions per state and year current version adopt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y rights restrictions were comm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eople who emigrated westward created constitutions that did not contain similar restrictions – at least property rights restrictions. This shift occurred around the time that Andrew Jackson began competing for the presidency.  This expansion of democratic participation is commonly referred to as Jacksonian Democrac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wer, western states offered more opportunities for non-elites (though racial and gender based restrictions continued to exist) to participate politically. Newer constitutions written at that time reflected this expansion of participation and also tied the general population closer to the activities of government. Newer state constitutions were less elitist than the older constitu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cludes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detail o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many other state constitutions, the Texas Constitution is far longer and more detail oriented than the national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Texas Constitution was drafted in the Constitutional Convention of 1875. It was preceded by several previous documents, and it has been heavily amended si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1876 (as of November 2011) 653 amendments have been proposed, of which 474 have been approved by voters. As a result the document currently contains over 80,000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explanations of the amendments proposed by the 82</a:t>
            </a:r>
            <a:r>
              <a:rPr b="0" lang="en-US" sz="4400" spc="-1" strike="noStrike" baseline="30000">
                <a:solidFill>
                  <a:srgbClr val="000000"/>
                </a:solidFill>
                <a:latin typeface="Calibri"/>
              </a:rPr>
              <a:t>nd</a:t>
            </a:r>
            <a:r>
              <a:rPr b="0" lang="en-US" sz="4400" spc="-1" strike="noStrike">
                <a:solidFill>
                  <a:srgbClr val="000000"/>
                </a:solidFill>
                <a:latin typeface="Calibri"/>
              </a:rPr>
              <a:t> legislature, and more info from the LRL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more lengthy and specific the document, the more precise the limits on government are. The expansion of national power is in many ways due to debate over the meaning of words like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begin with a few basic facts about state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roblem with restrictions placed on the Texas Constitution is that it has be amended repeatedly in order to overcome the restrictions placed on it when it wishes, for example, to spend money on highway construction or some other such endeav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two pages that walk you through the process the state went through from each of its constitutions.</a:t>
            </a:r>
            <a:br>
              <a:rPr sz="4400"/>
            </a:br>
            <a:br>
              <a:rPr sz="4400"/>
            </a:br>
            <a:r>
              <a:rPr b="0" lang="en-US" sz="4400" spc="-1" strike="noStrike">
                <a:solidFill>
                  <a:srgbClr val="000000"/>
                </a:solidFill>
                <a:latin typeface="Calibri"/>
              </a:rPr>
              <a:t>Texas Politics – The Constitution</a:t>
            </a:r>
            <a:br>
              <a:rPr sz="4400"/>
            </a:br>
            <a:r>
              <a:rPr b="0" lang="en-US" sz="4400" spc="-1" strike="noStrike">
                <a:solidFill>
                  <a:srgbClr val="000000"/>
                </a:solidFill>
                <a:latin typeface="Calibri"/>
              </a:rPr>
              <a:t>Tarleton Law Library</a:t>
            </a:r>
            <a:br>
              <a:rPr sz="4400"/>
            </a:br>
            <a:r>
              <a:rPr b="0" lang="en-US" sz="4400" spc="-1" strike="noStrike">
                <a:solidFill>
                  <a:srgbClr val="000000"/>
                </a:solidFill>
                <a:latin typeface="Calibri"/>
              </a:rPr>
              <a:t>Texas Law Timel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links to previous Texas Constitutions and related mater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1876 Constitution, the state had seven previous ones beginning with the 1827 Constitution when Texas was still a Mexican state along with Coahuila.</a:t>
            </a:r>
            <a:br>
              <a:rPr sz="4400"/>
            </a:br>
            <a:br>
              <a:rPr sz="4400"/>
            </a:br>
            <a:r>
              <a:rPr b="0" lang="en-US" sz="4400" spc="-1" strike="noStrike">
                <a:solidFill>
                  <a:srgbClr val="000000"/>
                </a:solidFill>
                <a:latin typeface="Calibri"/>
              </a:rPr>
              <a:t>It has had five constitutions since stateho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Federal Constitution of the United Mexican States (1824)</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he State of Coahuila and Texas (1827) </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 of TSHA outline: This created a Mexican government somewhat modeled on the American system – with there separate branches – but no statement of the rights of states. The document also established that the Catholic church was the official national religion and was supported by tax revenu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egal Anglo settlement of Texas began with the grant given to Moses Austin to bring settlers into Mexico. </a:t>
            </a:r>
            <a:br>
              <a:rPr sz="3600"/>
            </a:br>
            <a:br>
              <a:rPr sz="3600"/>
            </a:br>
            <a:r>
              <a:rPr b="0" lang="en-US" sz="3600" spc="-1" strike="noStrike">
                <a:solidFill>
                  <a:srgbClr val="000000"/>
                </a:solidFill>
                <a:latin typeface="Calibri"/>
              </a:rPr>
              <a:t>Part of the intent on the part of Mexico was to place a limit on the westward expansion of the United States. It didn’t work, as we know, Texas would eventually declare independence and establish its own constitution as in independent na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with further related information: </a:t>
            </a:r>
            <a:br>
              <a:rPr sz="4400"/>
            </a:br>
            <a:br>
              <a:rPr sz="4400"/>
            </a:br>
            <a:r>
              <a:rPr b="0" lang="en-US" sz="4400" spc="-1" strike="noStrike">
                <a:solidFill>
                  <a:srgbClr val="000000"/>
                </a:solidFill>
                <a:latin typeface="Calibri"/>
              </a:rPr>
              <a:t>- Stephen F. Austin’s Colony</a:t>
            </a:r>
            <a:br>
              <a:rPr sz="4400"/>
            </a:br>
            <a:r>
              <a:rPr b="0" lang="en-US" sz="4400" spc="-1" strike="noStrike">
                <a:solidFill>
                  <a:srgbClr val="000000"/>
                </a:solidFill>
                <a:latin typeface="Calibri"/>
              </a:rPr>
              <a:t>- Mexican Texas</a:t>
            </a:r>
            <a:br>
              <a:rPr sz="4400"/>
            </a:br>
            <a:r>
              <a:rPr b="0" lang="en-US" sz="4400" spc="-1" strike="noStrike">
                <a:solidFill>
                  <a:srgbClr val="000000"/>
                </a:solidFill>
                <a:latin typeface="Calibri"/>
              </a:rPr>
              <a:t>- Empresari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repeat a point above. Each state in the United States has a constitution that defines its government.  </a:t>
            </a:r>
            <a:br>
              <a:rPr sz="4000"/>
            </a:br>
            <a:br>
              <a:rPr sz="4000"/>
            </a:br>
            <a:r>
              <a:rPr b="0" lang="en-US" sz="4000" spc="-1" strike="noStrike">
                <a:solidFill>
                  <a:srgbClr val="000000"/>
                </a:solidFill>
                <a:latin typeface="Calibri"/>
              </a:rPr>
              <a:t>The United States constitution guarantees to each state a republican form of government. The states have some discretion regarding what these government look lik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he Republic of Texas (1836)</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 of TSHA info: The document was written quickly – they were afraid of Mexican attacks – and was based heavily on the U.S. Constitution. Since members of the convention came from states steeped in Jacksonianism, elements of the constitution limited government power, most notably short terms of office and annual elec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45)</a:t>
            </a:r>
            <a:br>
              <a:rPr sz="4400"/>
            </a:br>
            <a:r>
              <a:rPr b="0" lang="en-US" sz="4400" spc="-1" strike="noStrike">
                <a:solidFill>
                  <a:srgbClr val="000000"/>
                </a:solidFill>
                <a:latin typeface="Calibri"/>
              </a:rPr>
              <a:t> (Joining the U.S.) </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was Texas’ first state constitution. It was a simple document with a structure not too different than that we have now, except that the governor was able to appoint top executive officials where as they are all now elected separately. More restrictions were placed on what types of laws could be passed, and provisions were made to establish and fund public schools in the st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61) (Seceding from the U.S. and joining the Confederate States)</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nstitution was modeled largely on the 1845 document. Few major changes were made to it, and those that did enforced the rights of slave owners. The emancipation of slaves was made illegal.  Loyalty oaths to the Confederacy were requir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66) (Rejoining the U.S.)</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as the first of three post Civil War constitutions written during Reconstruction when there was a strong military presence in Texas. It was written to be in compliance with reconstruction and accepted the illegality of slavery. The institutions created were made stronger – longer term lengths and larger salaries, which was unpopular. Segregated school for African American students were allow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69) (Reconstruction Constitution) </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constitution was mandated by the U.S. Congress in the Reconstruction Act of 1867 which passed over Andrew Johnson’s veto. It mandated that Texas accept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recognize civil rights, and also raised taxes in order to provide a centralized common school system and law enforcement. It was a controversial constitution that led to backlas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4, Section 4</a:t>
            </a:r>
            <a:br>
              <a:rPr sz="4400"/>
            </a:br>
            <a:br>
              <a:rPr sz="4400"/>
            </a:br>
            <a:r>
              <a:rPr b="0" lang="en-US" sz="4400" spc="-1" strike="noStrike">
                <a:solidFill>
                  <a:srgbClr val="000000"/>
                </a:solidFill>
                <a:latin typeface="Calibri"/>
              </a:rPr>
              <a:t>“The United States shall guarantee to every State in this Union a Republican Form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76)</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ten in response to both Reconstruction and the allegedly corrupt administration of E.J. Davis, this constitution shortened term lengths, lowered salaries, and allowed for greater local control. Civil rights protections for freed slaves were remo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e current constitution click here. As stated before, its has been heavily amended. Since 1876 (as of November 2011) 653 amendments have been proposed, of which 474 have been approved by voters. As a result the document currently contains over 80,000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For background on the amendments click here: Amendments to the Texas Constitution Since 1876, </a:t>
            </a:r>
            <a:br>
              <a:rPr sz="4400"/>
            </a:br>
            <a:r>
              <a:rPr b="0" lang="en-US" sz="4400" spc="-1" strike="noStrike">
                <a:solidFill>
                  <a:srgbClr val="000000"/>
                </a:solidFill>
                <a:latin typeface="Calibri"/>
              </a:rPr>
              <a:t>Texas Legislative Council</a:t>
            </a:r>
            <a:br>
              <a:rPr sz="4400"/>
            </a:br>
            <a:r>
              <a:rPr b="0" lang="en-US" sz="4400" spc="-1" strike="noStrike">
                <a:solidFill>
                  <a:srgbClr val="000000"/>
                </a:solidFill>
                <a:latin typeface="Calibri"/>
              </a:rPr>
              <a:t>March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AMBLE</a:t>
            </a:r>
            <a:br>
              <a:rPr sz="4400"/>
            </a:br>
            <a:br>
              <a:rPr sz="4400"/>
            </a:br>
            <a:br>
              <a:rPr sz="4400"/>
            </a:br>
            <a:r>
              <a:rPr b="0" lang="en-US" sz="4400" spc="-1" strike="noStrike">
                <a:solidFill>
                  <a:srgbClr val="000000"/>
                </a:solidFill>
                <a:latin typeface="Calibri"/>
              </a:rPr>
              <a:t>Humbly invoking the blessings of Almighty God, the people of the State of Texas, do ordain and establish this Constitution.</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ocument contains far more explicit religious content than the U.S. Constitution, including a the requirement that office holders acknowledge the existence of a Supreme Being </a:t>
            </a:r>
            <a:br>
              <a:rPr sz="4400"/>
            </a:br>
            <a:r>
              <a:rPr b="0" lang="en-US" sz="4400" spc="-1" strike="noStrike">
                <a:solidFill>
                  <a:srgbClr val="000000"/>
                </a:solidFill>
                <a:latin typeface="Calibri"/>
              </a:rPr>
              <a:t>(Article 1, Section 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One: The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at the Texas Constitution begins with a Bill of Rights (it was tacked on to the end the U.S. Constitution). It is far more detailed, and amended that the U.S. document and includes items such as Equal Rights and Victims Rights clauses that do not exist on the national leve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Two: The Powers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constitutions tend to be longer – and in many cases much longer – than the United States Constitution. </a:t>
            </a:r>
            <a:br>
              <a:rPr sz="4400"/>
            </a:br>
            <a:br>
              <a:rPr sz="4400"/>
            </a:br>
            <a:r>
              <a:rPr b="0" lang="en-US" sz="4400" spc="-1" strike="noStrike">
                <a:solidFill>
                  <a:srgbClr val="000000"/>
                </a:solidFill>
                <a:latin typeface="Calibri"/>
              </a:rPr>
              <a:t>This is because they are more detailed oriented. There are at least two reasons for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SION OF POWERS; THREE SEPARATE DEPARTMENTS; EXERCISE OF POWER PROPERLY ATTACHED TO OTHER DEPARTMENTS. The powers of the Government of the State of Texas shall be divided into three distinct departments, each of which shall be confided to a separate body of magistracy, to wit: Those which are Legislative to one; those which are Executive to another, and those which are Judicial to another; and no person, or collection of persons, being of one of these departments, shall exercise any power properly attached to either of the others, except in the instances herein expressly permit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icitly states that the Texas government is composed of separated powers and what that term means. There is no such statement on the national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3: The Legisla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establishes a bicameral legislature structured much like the United States Congress, but it only meets for 140 days (Sec. 24) in the year following each election. Salaries are also very low. The intent is to establish a weak legislature with little power independent of the interests of the local commun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4: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opposed to the U.S. Constitution, which vests executive power in a president, the Texas Constitution vests it in a variety of independently elected executive officers. This creates a plural executive which is also intended – along with the amateur legislature – to minimize autonomous governing power in the st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5: The Judicial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exas Constitution details the design of the state judiciary and specifically states that judges are to be elected. This makes them subject to the will of the majority, which limits their independence. The U.S. courts, in contrast, are appointed in order to remove them from the direct influence of the electorate. As with the other institutions created, this is designed to weaken the cour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6: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s we will discuss in the section on voting, the U.S. Constitution originally gave each state the full ability to decide who got to vote. After the Civil War, a series of amendments were added that restricted the states from using various means (race, gender, etc…) to restrict access to the polls. Others are still fair game. This Article states that the mentally incompetent and felons may not vote. The legislature can also restrict the vote from those convicted of bribery and other crimes.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9T22:27:14Z</dcterms:created>
  <dc:creator>Kevin Jefferies</dc:creator>
  <dc:description/>
  <dc:language>en-US</dc:language>
  <cp:lastModifiedBy>Kevin Jefferies</cp:lastModifiedBy>
  <dcterms:modified xsi:type="dcterms:W3CDTF">2012-08-18T17:36:51Z</dcterms:modified>
  <cp:revision>135</cp:revision>
  <dc:subject/>
  <dc:title>The Texas Constitution</dc:title>
</cp:coreProperties>
</file>